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B7A-EDF4-4398-A972-1B466DD8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BBF-5AA6-4095-BF63-EDF6159B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43910-3366-4CCE-B4E1-1F9E761B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A4F68-17BA-4734-8D97-FD8DB9D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95651-24D6-48EF-9145-DA375E8B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496C6-69F0-4970-ABA7-6CE6009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65DF8-E49F-4004-9DF7-52F03BBD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859D0-C916-4B9E-9096-BA28BD9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D527D-C449-4603-B522-CE3FD195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422D0-5040-45FA-8CF9-B1E4C19F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168B5-EE5A-40B3-A138-C2F9772F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66DC1-F49F-4709-9A82-D2D09C1F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8EF-DFDC-4957-B5D5-FA26FF24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FD078-6F7E-4611-8450-A7C4BEA5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E21D8-D86D-4351-9EF0-A3A7D738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44CA9-B79F-4E55-A236-E0E61536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14DEF-99A1-4992-AAB6-F6B0FD59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D6674-6581-4F93-AD2F-32D4A42D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B64B5-902C-4ED3-A9B5-FA77E199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576CF-7C09-4A9A-AC69-E03ACBAB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FA8AF-9FE3-4E9F-9FAF-D8E61036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CC4DF-DEC5-4A10-AB45-02E60615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650B2-6E96-4ECE-9155-D49F33A3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F88-DB40-4E10-ABAF-9334730B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5B1DC-AF57-4BED-8E65-D8131AEA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93C65-08BF-4B44-8F64-AF79C5F6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1B072-2AA0-42B7-8C0B-9BC0CB4B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AD8D2-6F0A-4484-A8A3-2B17EAD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ABC94-783A-4C24-9F4B-C294DF35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C4405-FC82-4DBA-8413-4583DAE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86A16-B623-4EEE-862E-4CC25CB0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68CBF-089A-467A-B6AD-C20BCD44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B84D8-236A-4142-8D52-463787E6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417F1-BB4A-46B4-BA09-90821206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AEE5-FBAB-4910-8634-B1810009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37CF-9576-44FA-A3A8-32B1A475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0E23D-12C0-4ECA-83D4-608F768A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B620D-FAA0-4375-9614-8911964E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8A5A6-6C0D-45BA-A2D6-601E9E39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47BC3-259E-422F-B61C-E2BA9572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A4686-3DC9-4612-8A86-4E4BAA78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9F4EE-4759-47C9-B7FC-8C477E66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F0E3E-AC0C-4127-AB3B-B1798F09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1AB72-23A6-4047-8BD6-89132BFB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1202C-D758-4F44-BBED-E05CD49F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A74C-1268-4CCB-91F7-1F862DA8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03C7E-3F3A-412F-B16B-BC037819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71F75-9715-4662-B688-6C58E84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520E4-D85C-4CFA-80CF-D4675A6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679E4-F29A-48E4-BA01-C3448171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69470-E40A-4568-93BE-A83670FB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F3D26-1ACA-48D4-B649-350DAE45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DF4E4-12CF-45AD-98D8-F70437A2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9C7E1-97BF-48E5-9E9C-2A95D66C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E35E4-B7AC-421E-AFCB-4AFDE11E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2986E-3B9A-4A99-B642-5639A6DE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63DA-2516-44D0-B94C-35BEE203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2FBCF-B0C4-4D91-91A9-DC075508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C22BC-99CF-44E6-8A0A-B927E6FE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D08C2-7AA3-4EFF-9C2C-5B61D6D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CB954-7B05-4EAC-8C53-0F9D0074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DF0D1-A165-4249-8C4A-AD9392DD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00FF3-7487-417D-B113-6BAAA24D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97249-48F1-4D12-B089-6EBDFE59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AC871-FAE9-4590-B7F1-4A4BC857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52256-EA3D-44C0-B749-DA005887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55A0C-B8C9-4D59-B30A-601F96D7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AD7D-F3B7-4A0F-80F0-7639542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DE75D-2EF3-4891-BE33-1A472170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D307D-033E-4476-A85A-90D54E65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EC614-2A78-42B0-A0C2-35AAC2B7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C80C5-CC8C-4BCA-996D-F1A8B019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6B8A9-9C4F-4AD6-911E-542CCDEE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E4A3D-1879-4A24-A154-9A3A51A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EEB8A-1CE6-40D0-A8B0-F8FC606D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307FB-7A27-412B-9496-0EFBF3B0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CAC14-A6FC-4EE4-9986-4E18F37E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43DC5-CDA1-47ED-8476-94099B59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FA7C-52F3-42EA-A56B-8554C5BE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7D8BD-41F1-4F99-8F4D-0329A060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072F2-F529-4180-AD41-822395FB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A63B3-043A-4105-ADD6-1D1E037B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2B8E8-AA7D-4D71-80AC-8DA9C559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2555FA-359E-4540-95F1-DC91CAD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6E7E7-2739-48C3-A7D1-D79C57A1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F8CD1-BE18-45FD-A55D-54783514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54BC9-B0F0-4E0C-93D1-B6A924C3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AEAA7-FD72-4D80-98FC-6C93A35F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F9B0C-5DC8-48CF-AEC6-4772EB3F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8E1D-3A05-4653-BEBB-48C68FF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47F47-BD06-4577-A7C0-1C9B9B7C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7F0BD-4F37-4FA2-BE76-065035FB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828CC-DE27-4663-99AD-CD16D609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1BC52-3BBC-4858-8DBC-EDE56530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C8C61-66B0-476A-B510-C0E077CD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C3D9A-629C-456E-9763-8AEF1BE9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A4205-3521-45C4-8F07-A0D7D72C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8AF9C-E420-472A-BFC9-083EB18E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7759E-9D19-4FC4-B2DE-ABB352BD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50086-FADE-4673-AF9B-1797A5F2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6E00-F488-490C-8048-114B4C1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393A7-4256-4894-89C7-6CF977B4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F8E73-94FB-4CF6-A695-B3A76269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CE7DB-D790-4441-BE41-1749BACF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BC149-F9CF-4550-95B8-855C18C0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00CA1-8B8F-464F-BE0C-62C458FA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D46E8-CE37-4D1B-853F-F527EB44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77855-8FA2-4275-9C2F-CF2717CF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3074C-BE02-4548-9EBC-D19370FB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959CA-9BC1-4CB3-91C3-7065CAAF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6A496-8BE4-44F4-8FFD-1BD12BE9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509-76CF-4CF0-80C9-DA662ABF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1D5A-6826-4994-8E25-11A578D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163B2-CDDF-49EF-AA15-84A19BE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F860B-8B3B-4217-8954-0A0DF640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E283E2-451E-43E4-A4E3-0510EB3E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8456D-A072-4751-B899-975FC553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9CB56F-32CF-4435-A103-F23A2B54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1385D-A8FF-40C0-AA45-1C762E66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4DA54-E83F-494F-B73B-06804B2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A7D49-5F53-4EDD-9AE3-4C3E7E39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6FF4E-E3D9-467C-8FF5-1DB08A12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B259B-2462-42A7-8461-D487B641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8761-F202-4ED1-B3E9-12544519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5A654-4079-47A0-8EAB-EC496358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78B3AA-6982-4ED4-BC85-7210A183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6E695-7DD1-4672-9E88-159147E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56FEB-F49E-42D4-A412-1EA1115C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5D087-35AD-4F3F-B772-BEB93D1F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BCFCE-1ACD-4268-9BCA-A15755DD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D9E4D-3C92-45FB-9927-2F5AC7FD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DB533D-F7C1-4548-BAC2-71CE770D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CDA93-F4DB-4316-A795-9573DE38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B01D30-25EA-4C2F-B645-23249FD5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94A5-16D7-4474-A911-D037F39F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57E81-D171-44CF-BAC9-629AEBDE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C0DF1-41D0-43C2-BB72-09B2D844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BE823-C375-4F98-B935-8581F7B5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A5B7B-9C94-4032-8F5F-2840CEA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D0DBAE-FE7A-4DAE-BA19-97111F68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E91A9-CC69-499A-AF89-62C273F1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421BE-D570-485C-81EC-B0FD0A10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E477A-3B52-4D06-A727-DA9AC7DD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636BA-7A19-4D4F-AA79-61D309D9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8F73A1-7BB6-4552-95A5-FE04922D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914A-0560-453F-86BE-70C4A82E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0B051-E058-44F6-AC11-65ADF571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E9A16-105A-440F-98A5-E6F31EB3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301D0-A65A-4ACA-AF4E-85F2D73E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A6A53-33D7-450A-A626-DC8FF3F3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BB7E0C-BBF8-4DCC-AC11-88AFAEF6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55EB6-BD19-4FDD-99CF-9324295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7925B4-6E61-4328-9BC9-60C0E33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B9AE2-1F0B-4FFB-8F43-64505A6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FA736-E076-4284-8580-8A9431C9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956C0F-51E9-4210-BE5C-871696B5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96B3-6DF2-4135-98CB-46E70485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46A8E-3A5D-45C6-93CB-D5944F10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B1EA8-E18F-428B-9FE3-368CFFDB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5AB31C-A570-47EE-A23B-27EE09C9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1B194-F0E6-4DB3-8242-B6B42AC9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E0CAD-4A95-4AE7-BBBF-AE0D311C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E732D-BEB3-4D0A-870C-A9A4D014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996DC-C4C4-40E6-B0E9-E23ACC6B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A7C190-7EE8-459F-89DC-1E2F6974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C56AE-AFBB-4C61-A28D-F4A430CF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44A1E-9C16-4D51-B824-50507EF0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DFF08-54DA-49AF-8E0C-53BA8AB7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781709-D37D-40D5-8CFE-AB513F78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B16CFE-B653-40AF-BEA9-FB3F5079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117B1-A149-48B0-9CD3-A2C6C323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89BB-7CD5-4597-86C3-FC7E7FD0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F1A0-D25A-4832-8749-9FB0FF0B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B82D-9767-4E13-8512-DE8A0B5B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9E87-813F-4353-BA31-79F3C668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AEC-F760-4F39-A451-8C932AF0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79FC-CC18-4F88-B308-19544ACA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3A46-27E2-4BED-944E-280D76D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9F63-F1D8-4C25-B31B-D45C595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256C-C2DC-4A3C-878D-E060A09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50D0-8BC9-49B7-B614-E1548923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F201-06EA-44A6-9BF5-864FAC06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E2B6-28F1-4846-93F2-624068D4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48BD2-526A-490A-86C1-B43FA30E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BE43-9E48-4FBE-BC4E-D998A22C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1934-EDE0-437F-A64E-3877DFEC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634-1AC1-4B9D-8112-C0062282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B2FEE-1CE0-4348-ADD9-259BABFD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505A-5969-4085-8C80-708F4FB4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7558A-C6C2-4A4E-B90E-1E6EF2E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F2A86-CDB8-43F0-B8BD-C9851629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DC87C-FF9F-471C-BE6B-6A56DB07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0F6E-237A-45F0-B52C-F679AC6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55DE-2D6F-40FE-88F7-C63CE065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91E0-3FF4-470B-B201-9BBCF2AC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56A1-49D9-4EC5-9CDE-E1BDFDB0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493DF-AEF2-4400-966C-44F3D24C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EB8-E870-449D-8D3C-45FB98CF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7D51-91EF-449A-B63D-0EB7E414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A7A7-1C01-45EF-AE2B-B22CBDDC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92481-8BCF-4097-839A-9AF8DA16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A80A-0CD3-45BD-BCFC-BF242825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2D6F-C79C-4F1C-A605-38C0E8D7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ED55B-275A-4291-A827-29DD049C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68D1-E4CD-4FC7-97CB-D837B5C5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4FD2-4AE2-4C2C-BC61-21715465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4C58-D8A6-429C-85A3-DE8FCF77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2DF96-4489-4757-8DD4-1446D3EA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294-AE70-4AC7-A837-4BDA71BE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E1127-E1B5-488B-B9C2-79CF459D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CE331-9BD3-4136-A86B-0E7FE1F1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0A89F-51D1-4B05-BE6D-ABEB5FC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927D9-8672-44F8-98BB-CDDC2296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30C54-9F0E-4F28-BAB4-A64EC25E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1BBF9-936F-4E3D-AACE-CE4A7945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FA54-7CBE-4161-9B30-54980E51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4CAE5-CAE8-401E-ACFE-985DDD10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39BF-8633-41FE-A410-2DB959D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4ADA-9816-423D-89EF-6CA0EEBF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40A-5AB8-4A2F-BB08-DA69C6AB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521F8-5676-4234-926D-273D02A7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CD890-821F-4AD2-9361-14BFEBCC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B31EF-FD19-4100-92AE-722227C0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3B26E-FE80-4165-BBFC-6E38A2FD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AEADE-8A1A-456C-AA44-FB5276BA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FDBC7-B98D-4A61-AC74-398F4560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62F96-006C-4317-AEA5-B3BADEA0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D68CA-1BE8-4EBE-B188-6E1330CD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926B6-388E-4CB0-A764-FD042397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57D3B-9257-4A4B-89C2-2656B129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5F4-179C-4985-A668-FFD91C9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21F7-F037-495B-8D7F-224D2AF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B66AA-BC82-4ADF-945F-2012694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744DA-C829-4E29-8F69-4F3E47B4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0C293-432D-4C3B-A377-B7A12396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D3CD8-FFFA-4867-B9FF-696B97FA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85799-74F9-4E56-8C87-CF9F014A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16836-31FD-4868-8689-F5CF90D4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904D9-16CD-4BFC-9839-AFBCC8CA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6399-9ABF-4399-809F-2870AC90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E554A-DF13-4E8F-A553-A1426F74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651-A0CD-4A16-B069-50BBDBD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BAB4-78A9-4197-8476-1ECC74B6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23AA8-5BC8-42E9-8DCE-211ABB0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2F507-BE9A-4ED3-B5BC-D0CA3FDB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23D22-7950-4F9D-BBAA-7EC1B761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3128E-C706-47B4-A98E-2838692D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5DAD-CD3A-48DE-986A-654D555D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A5F03-2142-44B4-BD77-28CF09BA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86317-BD77-42A2-9A85-DA8B8E4C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4F252-8884-43DB-8F9B-93A90ECA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7879D-8D9B-4E99-9435-5258D4A5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85AD-1869-45C8-B5F9-DB37F6A7B9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B9F5-5FBB-4A24-A23D-E8ACE1FBCA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5775-5F43-49CB-805E-FFC1726A94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6FEE-7634-4960-BFA3-1D4553970A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607A-6E8F-4E50-9521-DA919414FE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0FAC-1427-4E04-B705-793F9019BC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D11C-97B6-4151-BB5C-345EE48802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844B-72B0-4DF1-8028-2ADC7918E4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D4E2-0A4E-4963-B0D6-644A575D3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35BE-956A-4A76-98B6-5073E48C8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8D97-D78E-45AA-80D4-DF95121417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F50C-CBAD-4919-AE3F-34F1BEDBFB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4B7F-06C3-4F70-960A-EB8A269597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3F7F-E4C4-4CF5-A92D-70A0502A44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BF90-810D-4F36-AB14-9FC9C71C22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7D44-C1C7-4C99-8C85-4461E2856C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3705-6473-45C0-8278-3313494392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B0C6-B7A4-4BED-879F-813807D877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C998-D6D4-4EC5-870E-E45BF452F9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37CB-E8EF-4EA1-B6FD-C55925A28E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D326-143C-4AA8-BF88-07D5CECB50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7BAC-731D-436A-898D-4328E2A238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BCF9-D5EC-4630-B869-302ADBF6E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0712-A124-427E-A496-6D5D5D02B1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CD2C-22DB-4CB8-802C-BC78BB93F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6168-5DD1-4D73-AFED-8B2E16971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7790-B557-429A-A169-CFA26702FB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B3B-76DA-496B-AFA4-C946C42ADD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9C00-D38C-495D-BD51-5312996E9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2EE-817D-439E-B6AA-E9E454523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5CA8-87B4-4BAD-A5E8-9FD124DAF9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090C-D1EE-47DB-95C3-E53F5C5804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AE39-BADF-4AD9-8F9B-E34899EBBD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CD32-1F48-425E-890D-F1958DB905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DBAA-C11F-416B-9556-0BF90A6D3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8D6D-F001-4DCB-B4D6-79D544DE4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36A0-BD62-45A7-9B86-2EEECB8668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3135-2369-4A3D-822E-F724ED98A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E3A6-C7FA-49C3-89FF-D70155E4E2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634-EB0A-45F8-816B-98579745B3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52520" y="2971800"/>
            <a:ext cx="643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1300320" y="1125360"/>
            <a:ext cx="6543360" cy="215280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69634" descr=""/>
          <p:cNvPicPr/>
          <p:nvPr/>
        </p:nvPicPr>
        <p:blipFill>
          <a:blip r:embed="rId2"/>
          <a:stretch/>
        </p:blipFill>
        <p:spPr>
          <a:xfrm>
            <a:off x="347760" y="3417840"/>
            <a:ext cx="8448480" cy="2171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413240" y="138420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7236000" y="1370160"/>
            <a:ext cx="576000" cy="7347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4643280" y="226224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7221600" y="229068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1835280" y="3687840"/>
            <a:ext cx="576000" cy="7347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4788000" y="3701880"/>
            <a:ext cx="720720" cy="735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7596360" y="3730680"/>
            <a:ext cx="720720" cy="7351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1836720" y="4551480"/>
            <a:ext cx="720720" cy="7347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5003640" y="4537080"/>
            <a:ext cx="863640" cy="7351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8308800" y="4567320"/>
            <a:ext cx="61308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714240"/>
            <a:ext cx="8534160" cy="5429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55640" y="363060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55640" y="426420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5640" y="497052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55640" y="5618160"/>
            <a:ext cx="5400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285840" y="52560"/>
            <a:ext cx="8572320" cy="67528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410364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539640" y="3616200"/>
            <a:ext cx="410364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395280" y="4292640"/>
            <a:ext cx="410364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395280" y="4941720"/>
            <a:ext cx="410364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68360" y="5618160"/>
            <a:ext cx="410364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468360" y="6321600"/>
            <a:ext cx="6119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276120" y="1185840"/>
            <a:ext cx="8591760" cy="4486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3960720" cy="934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3227400"/>
            <a:ext cx="3960720" cy="934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684360" y="440856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539640" y="5099040"/>
            <a:ext cx="4824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281160" y="795240"/>
            <a:ext cx="8581680" cy="56581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042920" y="3616200"/>
            <a:ext cx="6193080" cy="89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826920" y="4695840"/>
            <a:ext cx="590580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755640" y="5373720"/>
            <a:ext cx="590544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826920" y="5992920"/>
            <a:ext cx="59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5" descr=""/>
          <p:cNvPicPr/>
          <p:nvPr/>
        </p:nvPicPr>
        <p:blipFill>
          <a:blip r:embed="rId1"/>
          <a:stretch/>
        </p:blipFill>
        <p:spPr>
          <a:xfrm>
            <a:off x="295200" y="2071800"/>
            <a:ext cx="85536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461880" y="1190520"/>
            <a:ext cx="8220240" cy="4476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684360" y="1239840"/>
            <a:ext cx="352728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84360" y="1859040"/>
            <a:ext cx="352728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755640" y="2506680"/>
            <a:ext cx="352728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39640" y="3213000"/>
            <a:ext cx="352764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611280" y="3860640"/>
            <a:ext cx="691344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611280" y="447984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8"/>
          <a:stretch/>
        </p:blipFill>
        <p:spPr>
          <a:xfrm>
            <a:off x="468360" y="5172120"/>
            <a:ext cx="813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266760" y="830160"/>
            <a:ext cx="8610480" cy="5838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2231" descr=""/>
          <p:cNvPicPr/>
          <p:nvPr/>
        </p:nvPicPr>
        <p:blipFill>
          <a:blip r:embed="rId1"/>
          <a:stretch/>
        </p:blipFill>
        <p:spPr>
          <a:xfrm>
            <a:off x="590400" y="2490840"/>
            <a:ext cx="7963200" cy="1876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156360" y="3803760"/>
            <a:ext cx="1079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4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